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93F0-8F95-48C5-B420-059E4BD1C91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FE2F-E976-4DFE-850B-C9FB1DA7806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043-1ADA-4098-9DEC-5CF44879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2FA-F8A5-4391-887A-6E8BC824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78E-ADD2-4B1A-A866-2BDB8ACD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444-6626-4F0A-A17F-EB6DC97F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16A-72FE-46DD-8616-A2434B03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8F8-3EFE-4665-8E71-60CFABB8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C1F-7D29-4A42-A643-CA05A2D6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5A0-7915-48A6-B3C0-0542BBDC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507-883E-44B1-A568-5A7680ED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A6C-7E16-4FE3-B8A8-2D99B589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266-7FB5-4573-848C-3BFCA42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1DD-72F2-49A0-AA92-5AE16595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AAE4-6436-4651-BAC0-6A679F14E7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ehn.rwth-aachen.de/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rafik 4" descr="StOEHn Postkarte_Vorderseite FINAL180810.png"/>
          <p:cNvPicPr/>
          <p:nvPr/>
        </p:nvPicPr>
        <p:blipFill>
          <a:blip r:embed="rId1"/>
          <a:stretch/>
        </p:blipFill>
        <p:spPr>
          <a:xfrm>
            <a:off x="533520" y="549360"/>
            <a:ext cx="8076960" cy="5759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092720" y="3886200"/>
            <a:ext cx="6793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4"/>
          <p:cNvSpPr/>
          <p:nvPr/>
        </p:nvSpPr>
        <p:spPr>
          <a:xfrm>
            <a:off x="0" y="6500880"/>
            <a:ext cx="51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95959"/>
                </a:solidFill>
                <a:latin typeface="Arial"/>
              </a:rPr>
              <a:t>Abteilung 6.2 Lehre, RWTH Aac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95959"/>
                </a:solidFill>
                <a:latin typeface="Arial"/>
              </a:rPr>
              <a:t>August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Textfeld 5"/>
          <p:cNvGrpSpPr/>
          <p:nvPr/>
        </p:nvGrpSpPr>
        <p:grpSpPr>
          <a:xfrm>
            <a:off x="4327560" y="85680"/>
            <a:ext cx="4816440" cy="3370320"/>
            <a:chOff x="4327560" y="85680"/>
            <a:chExt cx="4816440" cy="3370320"/>
          </a:xfrm>
        </p:grpSpPr>
        <p:pic>
          <p:nvPicPr>
            <p:cNvPr id="53" name="Textfeld 5" descr=""/>
            <p:cNvPicPr/>
            <p:nvPr/>
          </p:nvPicPr>
          <p:blipFill>
            <a:blip r:embed="rId2"/>
            <a:stretch/>
          </p:blipFill>
          <p:spPr>
            <a:xfrm>
              <a:off x="4327560" y="85680"/>
              <a:ext cx="4816440" cy="33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573800">
              <a:off x="4458240" y="1059120"/>
              <a:ext cx="4562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ffff"/>
                  </a:solidFill>
                  <a:latin typeface="Calibri"/>
                </a:rPr>
                <a:t>Der neue StOEHn-Film ist da 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9933"/>
                </a:solidFill>
                <a:latin typeface="Calibri"/>
              </a:rPr>
              <a:t>StOEH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197000"/>
            <a:ext cx="849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33520" indent="-14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Ziel?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udiengangsoptimierung der Bachelor- und Masterstudiengä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Wie?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gleich von tatsächlichem Workload mit Soll-Workload (EC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Wo?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ampusOff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Warum?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. Ihr StOEHnen optimiert Ihren Studieng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Je mehr Studierende an der StOEHn-Befragung im CampusOffice teilnehmen, desto besser bildet der StOEHn-Bericht die Realität a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. Ihr StOEHnen verschafft Durchbli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e erhalten nach Ihrer Teilnahme ein direktes Feedback zu Ihrem Zeitaufwand pro Modul und können Ihr Zeitmanagement mit dem Anderer vergleich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3. Ihr StOEHnen bringt tolle Pre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e nehmen automatisch an der StOEHn-Lotterie teil. Ihre Gewinnchancen auf  tolle Preise (Laptop, Laserdrucker u.v.m.) steigen auf das Sechsfache, wenn Sie jeden Monat im Semester Angaben zu Ihrem Workload mach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el 1"/>
          <p:cNvSpPr/>
          <p:nvPr/>
        </p:nvSpPr>
        <p:spPr>
          <a:xfrm>
            <a:off x="4067280" y="44280"/>
            <a:ext cx="41148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S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udentis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nline Work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 rhebung Aach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ochsch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feld 4"/>
          <p:cNvSpPr/>
          <p:nvPr/>
        </p:nvSpPr>
        <p:spPr>
          <a:xfrm>
            <a:off x="324000" y="595008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9933"/>
                </a:solidFill>
                <a:uFillTx/>
                <a:latin typeface="Calibri"/>
                <a:hlinkClick r:id="rId1"/>
              </a:rPr>
              <a:t>www.stoehn.rwth-aachen.de</a:t>
            </a:r>
            <a:r>
              <a:rPr b="1" lang="de-DE" sz="2800" spc="-1" strike="noStrike">
                <a:solidFill>
                  <a:srgbClr val="ff9933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33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0" y="1143000"/>
            <a:ext cx="9177480" cy="2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olie 1"/>
          <p:cNvPicPr/>
          <p:nvPr/>
        </p:nvPicPr>
        <p:blipFill>
          <a:blip r:embed="rId3"/>
          <a:stretch/>
        </p:blipFill>
        <p:spPr>
          <a:xfrm>
            <a:off x="6593040" y="272880"/>
            <a:ext cx="2322360" cy="676440"/>
          </a:xfrm>
          <a:prstGeom prst="rect">
            <a:avLst/>
          </a:prstGeom>
          <a:ln w="0">
            <a:noFill/>
          </a:ln>
        </p:spPr>
      </p:pic>
      <p:sp>
        <p:nvSpPr>
          <p:cNvPr id="61" name="Textfeld 7"/>
          <p:cNvSpPr/>
          <p:nvPr/>
        </p:nvSpPr>
        <p:spPr>
          <a:xfrm>
            <a:off x="0" y="6500880"/>
            <a:ext cx="51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95959"/>
                </a:solidFill>
                <a:latin typeface="Arial"/>
              </a:rPr>
              <a:t>Abteilung 6.2 Lehre, RWTH Aac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95959"/>
                </a:solidFill>
                <a:latin typeface="Arial"/>
              </a:rPr>
              <a:t>August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Textfeld 8"/>
          <p:cNvGrpSpPr/>
          <p:nvPr/>
        </p:nvGrpSpPr>
        <p:grpSpPr>
          <a:xfrm>
            <a:off x="4803840" y="6040440"/>
            <a:ext cx="2992320" cy="463680"/>
            <a:chOff x="4803840" y="6040440"/>
            <a:chExt cx="2992320" cy="463680"/>
          </a:xfrm>
        </p:grpSpPr>
        <p:pic>
          <p:nvPicPr>
            <p:cNvPr id="63" name="Textfeld 8" descr=""/>
            <p:cNvPicPr/>
            <p:nvPr/>
          </p:nvPicPr>
          <p:blipFill>
            <a:blip r:embed="rId4"/>
            <a:stretch/>
          </p:blipFill>
          <p:spPr>
            <a:xfrm>
              <a:off x="4803840" y="6040440"/>
              <a:ext cx="29923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896000" y="6093000"/>
              <a:ext cx="28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alibri"/>
                </a:rPr>
                <a:t>Der neue StOEHn-Film  ist da 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08:31:54Z</dcterms:created>
  <dc:creator>pecgawmi</dc:creator>
  <dc:description/>
  <dc:language>en-US</dc:language>
  <cp:lastModifiedBy>Daniela Woll</cp:lastModifiedBy>
  <dcterms:modified xsi:type="dcterms:W3CDTF">2011-08-22T13:17:40Z</dcterms:modified>
  <cp:revision>20</cp:revision>
  <dc:subject/>
  <dc:title>Folie 1</dc:title>
</cp:coreProperties>
</file>