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0CDA4-1E42-43BB-858F-C142E452B4C7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liennummernplatzhalt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6B470-6805-4710-90E0-07DB347D3103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515B-A7CD-47F2-B295-128A66953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9A31-CE3D-45A7-A694-A6C5AEDA6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7838-2EDE-4B6C-957C-70162ECB6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D8DE-5EE9-43AA-9746-FB2D82171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C191-3B22-4D07-BC0F-AD06C8286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8DCB-6840-4AC8-8528-8823442DC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434A-6567-4409-9BC8-632ABCE58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9B32-FB98-4B8C-8B92-A8085E3E8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3E87-76C7-4CA7-8033-C3F587F09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98E9-7D81-4B0C-976C-63304E7FC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20EE-F1B0-4EF1-B0D8-08F255985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1FAC-2124-47EA-AA7F-977682E93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CF1FC-7608-4A29-B179-1A70347465F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stoehn.rwth-aachen.de/" TargetMode="External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Grafik 4" descr="StOEHn Postkarte_Vorderseite FINAL180810.png"/>
          <p:cNvPicPr/>
          <p:nvPr/>
        </p:nvPicPr>
        <p:blipFill>
          <a:blip r:embed="rId1"/>
          <a:stretch/>
        </p:blipFill>
        <p:spPr>
          <a:xfrm>
            <a:off x="533520" y="549360"/>
            <a:ext cx="8076960" cy="57592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7092720" y="3886200"/>
            <a:ext cx="679320" cy="175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feld 4"/>
          <p:cNvSpPr/>
          <p:nvPr/>
        </p:nvSpPr>
        <p:spPr>
          <a:xfrm>
            <a:off x="0" y="6500880"/>
            <a:ext cx="51483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595959"/>
                </a:solidFill>
                <a:latin typeface="Arial"/>
              </a:rPr>
              <a:t>Abteilung 6.2 Lehre, RWTH Aach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595959"/>
                </a:solidFill>
                <a:latin typeface="Arial"/>
              </a:rPr>
              <a:t>August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Textfeld 5"/>
          <p:cNvGrpSpPr/>
          <p:nvPr/>
        </p:nvGrpSpPr>
        <p:grpSpPr>
          <a:xfrm>
            <a:off x="4327560" y="85680"/>
            <a:ext cx="4816440" cy="3370320"/>
            <a:chOff x="4327560" y="85680"/>
            <a:chExt cx="4816440" cy="3370320"/>
          </a:xfrm>
        </p:grpSpPr>
        <p:pic>
          <p:nvPicPr>
            <p:cNvPr id="53" name="Textfeld 5" descr=""/>
            <p:cNvPicPr/>
            <p:nvPr/>
          </p:nvPicPr>
          <p:blipFill>
            <a:blip r:embed="rId2"/>
            <a:stretch/>
          </p:blipFill>
          <p:spPr>
            <a:xfrm>
              <a:off x="4327560" y="85680"/>
              <a:ext cx="4816440" cy="337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 rot="1573800">
              <a:off x="4458240" y="1059120"/>
              <a:ext cx="456264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800" spc="-1" strike="noStrike">
                  <a:solidFill>
                    <a:srgbClr val="ffffff"/>
                  </a:solidFill>
                  <a:latin typeface="Calibri"/>
                </a:rPr>
                <a:t>Der neue StOEHn-Film ist da !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600" spc="-1" strike="noStrike">
                <a:solidFill>
                  <a:srgbClr val="ff9933"/>
                </a:solidFill>
                <a:latin typeface="Calibri"/>
              </a:rPr>
              <a:t>StOEHn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24000" y="1197000"/>
            <a:ext cx="84960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433520" indent="-143352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alibri"/>
              </a:rPr>
              <a:t>Ziel?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Studiengangsoptimierung der Bachelor- und Masterstudiengän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433520" indent="-143352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alibri"/>
              </a:rPr>
              <a:t>Wie?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Vergleich von tatsächlichem Workload mit Soll-Workload (ECT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433520" indent="-143352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alibri"/>
              </a:rPr>
              <a:t>Wo?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CampusOff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433520" indent="-143352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alibri"/>
              </a:rPr>
              <a:t>Warum?</a:t>
            </a:r>
            <a:r>
              <a:rPr b="1" lang="de-DE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. Ihr StOEHnen optimiert Ihren Studienga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433520" indent="-143352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Je mehr Studierende an der StOEHn-Befragung im CampusOffice teilnehmen, desto besser bildet der StOEHn-Bericht die Realität ab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433520" indent="-143352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2. Ihr StOEHnen verschafft Durchbli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433520" indent="-143352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Sie erhalten nach Ihrer Teilnahme ein direktes Feedback zu Ihrem Zeitaufwand pro Modul und können Ihr Zeitmanagement mit dem Anderer vergleiche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433520" indent="-143352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3. Ihr StOEHnen bringt tolle Prei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433520" indent="-143352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Sie nehmen automatisch an der StOEHn-Lotterie teil. Ihre Gewinnchancen auf  tolle Preise (Laptop, Laserdrucker u.v.m.) steigen auf das Sechsfache, wenn Sie jeden Monat im Semester Angaben zu Ihrem Workload mache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itel 1"/>
          <p:cNvSpPr/>
          <p:nvPr/>
        </p:nvSpPr>
        <p:spPr>
          <a:xfrm>
            <a:off x="4067280" y="44280"/>
            <a:ext cx="411480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alibri"/>
              </a:rPr>
              <a:t>St</a:t>
            </a:r>
            <a:r>
              <a:rPr b="0" lang="de-DE" sz="1400" spc="-1" strike="noStrike">
                <a:solidFill>
                  <a:srgbClr val="000000"/>
                </a:solidFill>
                <a:latin typeface="Calibri"/>
              </a:rPr>
              <a:t> udentisch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de-DE" sz="1400" spc="-1" strike="noStrike">
                <a:solidFill>
                  <a:srgbClr val="000000"/>
                </a:solidFill>
                <a:latin typeface="Calibri"/>
              </a:rPr>
              <a:t>  nline Worklo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de-DE" sz="1400" spc="-1" strike="noStrike">
                <a:solidFill>
                  <a:srgbClr val="000000"/>
                </a:solidFill>
                <a:latin typeface="Calibri"/>
              </a:rPr>
              <a:t>   rhebung Aache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alibri"/>
              </a:rPr>
              <a:t>H </a:t>
            </a:r>
            <a:r>
              <a:rPr b="0" lang="de-DE" sz="1400" spc="-1" strike="noStrike">
                <a:solidFill>
                  <a:srgbClr val="000000"/>
                </a:solidFill>
                <a:latin typeface="Calibri"/>
              </a:rPr>
              <a:t> ochschu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alibri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feld 4"/>
          <p:cNvSpPr/>
          <p:nvPr/>
        </p:nvSpPr>
        <p:spPr>
          <a:xfrm>
            <a:off x="324000" y="5950080"/>
            <a:ext cx="8208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ff9933"/>
                </a:solidFill>
                <a:uFillTx/>
                <a:latin typeface="Calibri"/>
                <a:hlinkClick r:id="rId1"/>
              </a:rPr>
              <a:t>www.stoehn.rwth-aachen.de</a:t>
            </a:r>
            <a:r>
              <a:rPr b="1" lang="de-DE" sz="2800" spc="-1" strike="noStrike">
                <a:solidFill>
                  <a:srgbClr val="ff9933"/>
                </a:solidFill>
                <a:latin typeface="Calibri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9933"/>
                </a:solidFill>
                <a:latin typeface="Calibri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8" descr=""/>
          <p:cNvPicPr/>
          <p:nvPr/>
        </p:nvPicPr>
        <p:blipFill>
          <a:blip r:embed="rId2"/>
          <a:stretch/>
        </p:blipFill>
        <p:spPr>
          <a:xfrm>
            <a:off x="0" y="1143000"/>
            <a:ext cx="9177480" cy="205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Folie 1"/>
          <p:cNvPicPr/>
          <p:nvPr/>
        </p:nvPicPr>
        <p:blipFill>
          <a:blip r:embed="rId3"/>
          <a:stretch/>
        </p:blipFill>
        <p:spPr>
          <a:xfrm>
            <a:off x="6593040" y="272880"/>
            <a:ext cx="2322360" cy="676440"/>
          </a:xfrm>
          <a:prstGeom prst="rect">
            <a:avLst/>
          </a:prstGeom>
          <a:ln w="0">
            <a:noFill/>
          </a:ln>
        </p:spPr>
      </p:pic>
      <p:sp>
        <p:nvSpPr>
          <p:cNvPr id="61" name="Textfeld 7"/>
          <p:cNvSpPr/>
          <p:nvPr/>
        </p:nvSpPr>
        <p:spPr>
          <a:xfrm>
            <a:off x="0" y="6500880"/>
            <a:ext cx="51483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595959"/>
                </a:solidFill>
                <a:latin typeface="Arial"/>
              </a:rPr>
              <a:t>Abteilung 6.2 Lehre, RWTH Aach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595959"/>
                </a:solidFill>
                <a:latin typeface="Arial"/>
              </a:rPr>
              <a:t>August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Textfeld 8"/>
          <p:cNvGrpSpPr/>
          <p:nvPr/>
        </p:nvGrpSpPr>
        <p:grpSpPr>
          <a:xfrm>
            <a:off x="4803840" y="6040440"/>
            <a:ext cx="2992320" cy="463680"/>
            <a:chOff x="4803840" y="6040440"/>
            <a:chExt cx="2992320" cy="463680"/>
          </a:xfrm>
        </p:grpSpPr>
        <p:pic>
          <p:nvPicPr>
            <p:cNvPr id="63" name="Textfeld 8" descr=""/>
            <p:cNvPicPr/>
            <p:nvPr/>
          </p:nvPicPr>
          <p:blipFill>
            <a:blip r:embed="rId4"/>
            <a:stretch/>
          </p:blipFill>
          <p:spPr>
            <a:xfrm>
              <a:off x="4803840" y="6040440"/>
              <a:ext cx="2992320" cy="46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4896000" y="6093000"/>
              <a:ext cx="2846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ffffff"/>
                  </a:solidFill>
                  <a:latin typeface="Calibri"/>
                </a:rPr>
                <a:t>Der neue StOEHn-Film  ist da !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7T08:31:54Z</dcterms:created>
  <dc:creator>pecgawmi</dc:creator>
  <dc:description/>
  <dc:language>en-US</dc:language>
  <cp:lastModifiedBy>Daniela Woll</cp:lastModifiedBy>
  <dcterms:modified xsi:type="dcterms:W3CDTF">2011-08-22T13:17:40Z</dcterms:modified>
  <cp:revision>20</cp:revision>
  <dc:subject/>
  <dc:title>Folie 1</dc:title>
</cp:coreProperties>
</file>